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whoosh.wav" ContentType="audio/x-wav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EB55-6A36-4184-B153-BD8573E1D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F46F-7F11-462B-89E4-BCCE3FF82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76D7-153B-4065-984C-D7263E560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2EBC-9393-4E09-9E5F-2A256E54B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5149-7E0A-4D90-8C59-D9240178E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093F-88B6-49FD-8CE2-C8CD0A2E9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E008-16E0-43B4-8BBD-ED3E51614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10EE-4A5C-4895-AE88-4F247E9C9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F837-00C1-43EA-94A4-B295C1392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5E06-A8DE-445F-9ECC-51646025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216A-9553-4161-91C9-95CA608D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D593-5D9B-427E-9CC2-7ED626E0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1F4BB-3333-4BFD-8520-FE9FF11FFC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asurement-A Common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333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C:\Documents and Settings\Owner\My Documents\My Pictures\school\Metric System.bmp"/>
          <p:cNvPicPr/>
          <p:nvPr/>
        </p:nvPicPr>
        <p:blipFill>
          <a:blip r:embed="rId1"/>
          <a:stretch/>
        </p:blipFill>
        <p:spPr>
          <a:xfrm>
            <a:off x="2971800" y="2133720"/>
            <a:ext cx="30942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y do scientists prefer to use the mass of an object instead of its weight?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ientists prefer to use an objects mass instead of its weight because mass does not change when the force of gravity d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is weight?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measure of the force of gravity acting on an objec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measure of the amount of matter an object conta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atte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 material that all objects and substances are made up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ything that has mass and takes up space is ma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basic unit of mass in the SI system is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kilogra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bjects such as paper clips would be measure i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illigram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bjects such as paper cups would be measured i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gra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838080" y="228600"/>
            <a:ext cx="6400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its of Mas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ver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523880" y="2133720"/>
          <a:ext cx="6096240" cy="289548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1654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 k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41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 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easuring Mass: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does a triple-beam balance work?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triple-beam balance works by comparing the mass of the object you are measuring to a known m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you use a triple-beam balance, yo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the object on the 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ift the riders on the beams until they balance the mass of the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654200" indent="-325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rt with the large rider (increments of 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654200" indent="-325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xt, the medium sized rider (increments of 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654200" indent="-325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stly, the small rider (increments of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Figure 3: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Observing -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is the mass of this turtle?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6" descr="C:\Documents and Settings\conantt\My Documents\My Pictures\2006-10 (Oct)\scan.jpg"/>
          <p:cNvPicPr/>
          <p:nvPr/>
        </p:nvPicPr>
        <p:blipFill>
          <a:blip r:embed="rId1"/>
          <a:stretch/>
        </p:blipFill>
        <p:spPr>
          <a:xfrm>
            <a:off x="-228600" y="2209680"/>
            <a:ext cx="9650520" cy="43578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257800" y="464796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53.7 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80"/>
                </a:solidFill>
                <a:latin typeface="Comic Sans MS"/>
                <a:ea typeface="Times New Roman"/>
              </a:rPr>
              <a:t>Mas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14475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would your weight differ if you were to travel to the moon?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251748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you were to travel to the moon your weight would be l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r weight would be lesser because the force of gravity is les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ight is a factor of the force of gra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0" y="0"/>
            <a:ext cx="89060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Difference Betwe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ss and Weigh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y would your mass stay constant if you were to travel to the moon?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r mass would stay the same if you were to travel to the moon because mass is the amount of matter that an object conta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nce you are still made up of the same amount of </a:t>
            </a:r>
            <a:r>
              <a:rPr b="0" lang="ja-JP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uff</a:t>
            </a:r>
            <a:r>
              <a:rPr b="0" lang="ja-JP" sz="3200" spc="-1" strike="noStrike">
                <a:solidFill>
                  <a:srgbClr val="000000"/>
                </a:solidFill>
                <a:latin typeface="Comic Sans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your mass would not 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9T12:23:35Z</dcterms:created>
  <dc:creator>conantt</dc:creator>
  <dc:description/>
  <dc:language>en-US</dc:language>
  <cp:lastModifiedBy>St. Aloysius</cp:lastModifiedBy>
  <cp:lastPrinted>2012-09-24T17:57:34Z</cp:lastPrinted>
  <dcterms:modified xsi:type="dcterms:W3CDTF">2012-09-24T18:07:19Z</dcterms:modified>
  <cp:revision>14</cp:revision>
  <dc:subject/>
  <dc:title>Measurement-A Common Language</dc:title>
</cp:coreProperties>
</file>